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3.jpeg" ContentType="image/jpeg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ricochet.wav" ContentType="audio/x-wav"/>
  <Override PartName="/ppt/media/image5.png" ContentType="image/png"/>
  <Override PartName="/ppt/media/image6.png" ContentType="image/png"/>
  <Override PartName="/ppt/media/camera.wav" ContentType="audio/x-wav"/>
  <Override PartName="/ppt/media/image4.jpeg" ContentType="image/jpeg"/>
  <Override PartName="/ppt/media/image10.wmf" ContentType="image/x-wmf"/>
  <Override PartName="/ppt/media/image11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7F78-7C1B-4B18-91C7-856485CD5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120-C4A3-4401-A3F8-DC0B89FE7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A740-24A4-4068-A47E-FCB1A45A0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7D0C-989D-4D8C-B3C8-2E950C9D6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C61E-BCB4-49F7-8E30-C7141A3B4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8014-8D85-4215-9656-129CDAF41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91E7-2573-4123-8326-0A285AC5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FF38-34A7-4004-9F36-9754985EF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A15F-7F30-4FA2-9C7B-F78636619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793F-5C41-449D-BA7D-3A67AA251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B134-C366-4235-A889-23262B13A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5B5C-5802-4ED8-B006-571B211CA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B2C6-369B-4A20-9B22-B00BC05FD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842F-AD46-4E9C-B9DE-F208A5BD1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3C62-8E61-4D50-9A4B-E6767A478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C16C-B452-483A-A45E-1DC5CC534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367E-5AA3-43E5-B2A8-F15153BCE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E201-72E7-48C4-987F-30B15ED29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A3C-5F19-4930-A65B-76B08C1FD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5D23-3486-46C0-83D4-BA7693679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5865-C4A9-4BF0-AB30-DAEC54C5F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3A46-4BF0-45B8-A6DA-E0DA29146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BA0D-4351-40F1-9F0F-EF663B034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4962-17FA-4A43-AA20-2F62A6D31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2FEE-7C65-46E3-B688-107C064BF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A3B3-BF9F-48F1-B1C7-F0184CDEE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CCE1-4C06-469D-8F76-A8E9CA3BB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B928-6F33-4C21-AB54-6A8ECC0F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9B61-4E4B-4965-A18C-61E2188F6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95AD-5147-4E22-BAFA-17F3623B6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4A06-A374-474A-858F-74C24049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4E11-378F-46E0-AEF5-198DDDAAF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F17B-328A-4B5D-B384-43253A0A3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EB65-19B2-4F49-A79F-DA40B2BD3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E37-62DA-4F51-BA12-BED907A5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22A-8BB7-46A6-B9F4-172AE0BA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262-1195-4886-88B7-6145C03B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012-27FE-4A3A-9E68-177657B6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F1D-B253-4EA6-AA5C-CD6405F6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FD86-0337-416B-BFA6-3A812EBF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6E39-B36B-41F9-B90D-019E7971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988C-B009-4816-BD53-B1D48DC4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86A9-E60F-485B-BE4A-5FAC6E5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7C2C-464E-484A-B862-B9FBA76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988F-EDDF-4A38-A7E8-3A70DCE1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955-5D90-49E2-854F-27024B2C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D82C-C0CC-468B-8B5D-560B419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CF8E-668E-4CE3-875E-5A80500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04E6-4FCB-4F82-96AF-D89F9ADF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8EC2-FFB3-4EEA-80FA-B5553341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5C0F-F8A4-4365-8A1B-8FCD9833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3F5-5C1B-477A-B2CD-101F4C6E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64A-FEE7-428C-B1C6-89B8DDFE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D2A-5BBC-4D3D-BD51-0E1017D5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FD1-7F0E-4AE3-AE34-DE79AEAD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BAE-38C7-453D-BEBD-3554DE39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ABE-B2C9-4391-9D81-56CC3C1C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82B-FD5D-432C-BD86-F0A6C1A2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90FB-7D14-45F9-931C-7D6B966E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A879-38CB-4165-B3FD-16F378C8B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30.xml"/><Relationship Id="rId19" Type="http://schemas.openxmlformats.org/officeDocument/2006/relationships/slide" Target="slide6.xml"/><Relationship Id="rId20" Type="http://schemas.openxmlformats.org/officeDocument/2006/relationships/slide" Target="slide11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31.xml"/><Relationship Id="rId25" Type="http://schemas.openxmlformats.org/officeDocument/2006/relationships/slide" Target="slide7.xml"/><Relationship Id="rId26" Type="http://schemas.openxmlformats.org/officeDocument/2006/relationships/slide" Target="slide12.xml"/><Relationship Id="rId27" Type="http://schemas.openxmlformats.org/officeDocument/2006/relationships/slide" Target="slide17.xml"/><Relationship Id="rId28" Type="http://schemas.openxmlformats.org/officeDocument/2006/relationships/slide" Target="slide22.xml"/><Relationship Id="rId29" Type="http://schemas.openxmlformats.org/officeDocument/2006/relationships/slide" Target="slide27.xml"/><Relationship Id="rId30" Type="http://schemas.openxmlformats.org/officeDocument/2006/relationships/slide" Target="slide32.xml"/><Relationship Id="rId31" Type="http://schemas.openxmlformats.org/officeDocument/2006/relationships/hyperlink" Target="http://lk020.k12.sd.us/default.htm" TargetMode="External"/><Relationship Id="rId32" Type="http://schemas.openxmlformats.org/officeDocument/2006/relationships/image" Target="../media/image3.png"/><Relationship Id="rId33" Type="http://schemas.openxmlformats.org/officeDocument/2006/relationships/slide" Target="slide33.xml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Click now to be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measure of angle 1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 76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693432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rcRect l="53369" t="40626" r="29687" b="43752"/>
          <a:stretch/>
        </p:blipFill>
        <p:spPr>
          <a:xfrm>
            <a:off x="4876920" y="2209680"/>
            <a:ext cx="29718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measure of angle 7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89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>
            <a:hlinkClick r:id="rId1" action="ppaction://hlinksldjump"/>
          </p:cNvPr>
          <p:cNvSpPr/>
          <p:nvPr/>
        </p:nvSpPr>
        <p:spPr>
          <a:xfrm>
            <a:off x="69343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rcRect l="67190" t="56253" r="3906" b="25004"/>
          <a:stretch/>
        </p:blipFill>
        <p:spPr>
          <a:xfrm>
            <a:off x="3733920" y="2666880"/>
            <a:ext cx="44956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measure of angle 1. 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128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>
            <a:hlinkClick r:id="rId1" action="ppaction://hlinksldjump"/>
          </p:cNvPr>
          <p:cNvSpPr/>
          <p:nvPr/>
        </p:nvSpPr>
        <p:spPr>
          <a:xfrm>
            <a:off x="6934320" y="4800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2"/>
          <a:srcRect l="67972" t="43752" r="6250" b="37501"/>
          <a:stretch/>
        </p:blipFill>
        <p:spPr>
          <a:xfrm>
            <a:off x="4419720" y="1981080"/>
            <a:ext cx="4495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sides 3, 4, 5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cale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67057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sides 4, 4, 7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sosce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70866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3 congruent angles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equiangul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716292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angles that measure 40</a:t>
            </a:r>
            <a:r>
              <a:rPr b="0" lang="en-US" sz="28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nd 50</a:t>
            </a:r>
            <a:r>
              <a:rPr b="0" lang="en-US" sz="28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028">
            <a:hlinkClick r:id="rId1" action="ppaction://hlinksldjump"/>
          </p:cNvPr>
          <p:cNvSpPr/>
          <p:nvPr/>
        </p:nvSpPr>
        <p:spPr>
          <a:xfrm>
            <a:off x="70866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30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angles that measure 58</a:t>
            </a:r>
            <a:r>
              <a:rPr b="0" lang="en-US" sz="28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nd 62</a:t>
            </a:r>
            <a:r>
              <a:rPr b="0" lang="en-US" sz="28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cute triangl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>
            <a:hlinkClick r:id="rId1" action="ppaction://hlinksldjump"/>
          </p:cNvPr>
          <p:cNvSpPr/>
          <p:nvPr/>
        </p:nvSpPr>
        <p:spPr>
          <a:xfrm>
            <a:off x="67057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y are the sixth, seventh, and eighth words in</a:t>
            </a:r>
            <a:br>
              <a:rPr sz="28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Upper Dublin Alma Mater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“Spirit of Loyalty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67816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56" descr="team_photo"/>
          <p:cNvPicPr/>
          <p:nvPr/>
        </p:nvPicPr>
        <p:blipFill>
          <a:blip r:embed="rId2"/>
          <a:stretch/>
        </p:blipFill>
        <p:spPr>
          <a:xfrm>
            <a:off x="3809880" y="2895480"/>
            <a:ext cx="19051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he voice of Dory, in Disney’s “Finding Nemo”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Ellen Degene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70866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th Jeopardy—Ch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111400"/>
          <a:ext cx="7772400" cy="3627360"/>
        </p:xfrm>
        <a:graphic>
          <a:graphicData uri="http://schemas.openxmlformats.org/drawingml/2006/table">
            <a:tbl>
              <a:tblPr/>
              <a:tblGrid>
                <a:gridCol w="1292400"/>
                <a:gridCol w="1295280"/>
                <a:gridCol w="1297080"/>
                <a:gridCol w="1295280"/>
                <a:gridCol w="1297080"/>
                <a:gridCol w="1295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sceles Tria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gles of a Triang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ify Tria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pour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gruent Triang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3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64">
            <a:hlinkClick r:id="rId31"/>
          </p:cNvPr>
          <p:cNvSpPr/>
          <p:nvPr/>
        </p:nvSpPr>
        <p:spPr>
          <a:xfrm>
            <a:off x="76201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jeopardy.wav" descr=""/>
          <p:cNvPicPr/>
          <p:nvPr/>
        </p:nvPicPr>
        <p:blipFill>
          <a:blip r:embed="rId32"/>
          <a:stretch/>
        </p:blipFill>
        <p:spPr>
          <a:xfrm>
            <a:off x="46483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ttps://encrypted-tbn3.gstatic.com/images?q=tbn:ANd9GcSCw4I0qbWmrr---kdS9Rx4Yx6i6pKh4RmhjMUTtG7REycOZ1cSPg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1295280" y="5867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2057400" y="6095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Jeopar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Of the 4 major Philadelphia sports teams, this head coach is the longest tenured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Chip Kel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708660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is the van that Scooby Doo and the gang drove around in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ystery Mach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162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scbmatMM"/>
          <p:cNvPicPr/>
          <p:nvPr/>
        </p:nvPicPr>
        <p:blipFill>
          <a:blip r:embed="rId1"/>
          <a:stretch/>
        </p:blipFill>
        <p:spPr>
          <a:xfrm>
            <a:off x="3886200" y="2971800"/>
            <a:ext cx="23623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On ABC’s “Modern Family,” this is the relationship between Jay and Phil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ather in law/son in la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68580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:BD bisects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C;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BD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 ?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3195360"/>
            <a:ext cx="762012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CB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A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0102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5181480" y="1981080"/>
            <a:ext cx="2386080" cy="2438640"/>
            <a:chOff x="5181480" y="1981080"/>
            <a:chExt cx="2386080" cy="2438640"/>
          </a:xfrm>
        </p:grpSpPr>
        <p:sp>
          <p:nvSpPr>
            <p:cNvPr id="192" name="AutoShape 6"/>
            <p:cNvSpPr/>
            <p:nvPr/>
          </p:nvSpPr>
          <p:spPr>
            <a:xfrm>
              <a:off x="5181480" y="1981080"/>
              <a:ext cx="238608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7"/>
            <p:cNvSpPr/>
            <p:nvPr/>
          </p:nvSpPr>
          <p:spPr>
            <a:xfrm>
              <a:off x="5464080" y="2473920"/>
              <a:ext cx="1919160" cy="7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"/>
            <p:cNvSpPr/>
            <p:nvPr/>
          </p:nvSpPr>
          <p:spPr>
            <a:xfrm flipH="1">
              <a:off x="6423480" y="2473920"/>
              <a:ext cx="959400" cy="14191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"/>
            <p:cNvSpPr/>
            <p:nvPr/>
          </p:nvSpPr>
          <p:spPr>
            <a:xfrm>
              <a:off x="5464080" y="2473920"/>
              <a:ext cx="959400" cy="14191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>
              <a:off x="6423840" y="2473920"/>
              <a:ext cx="720" cy="14191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6257520" y="3386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6478200" y="3386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6525720" y="2501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6230520" y="2490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6173280" y="2068200"/>
              <a:ext cx="267840" cy="423360"/>
              <a:chOff x="6173280" y="2068200"/>
              <a:chExt cx="267840" cy="423360"/>
            </a:xfrm>
          </p:grpSpPr>
          <p:sp>
            <p:nvSpPr>
              <p:cNvPr id="202" name="Oval 16"/>
              <p:cNvSpPr/>
              <p:nvPr/>
            </p:nvSpPr>
            <p:spPr>
              <a:xfrm>
                <a:off x="6404400" y="2455560"/>
                <a:ext cx="3672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"/>
              <p:cNvSpPr/>
              <p:nvPr/>
            </p:nvSpPr>
            <p:spPr>
              <a:xfrm>
                <a:off x="6173280" y="20682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8"/>
            <p:cNvGrpSpPr/>
            <p:nvPr/>
          </p:nvGrpSpPr>
          <p:grpSpPr>
            <a:xfrm>
              <a:off x="5269680" y="2095920"/>
              <a:ext cx="212400" cy="395640"/>
              <a:chOff x="5269680" y="2095920"/>
              <a:chExt cx="212400" cy="395640"/>
            </a:xfrm>
          </p:grpSpPr>
          <p:sp>
            <p:nvSpPr>
              <p:cNvPr id="205" name="Oval 19"/>
              <p:cNvSpPr/>
              <p:nvPr/>
            </p:nvSpPr>
            <p:spPr>
              <a:xfrm>
                <a:off x="5445000" y="2455560"/>
                <a:ext cx="3708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>
                <a:off x="5269680" y="20959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21"/>
            <p:cNvGrpSpPr/>
            <p:nvPr/>
          </p:nvGrpSpPr>
          <p:grpSpPr>
            <a:xfrm>
              <a:off x="7180200" y="2113920"/>
              <a:ext cx="220680" cy="377280"/>
              <a:chOff x="7180200" y="2113920"/>
              <a:chExt cx="220680" cy="377280"/>
            </a:xfrm>
          </p:grpSpPr>
          <p:sp>
            <p:nvSpPr>
              <p:cNvPr id="208" name="Oval 22"/>
              <p:cNvSpPr/>
              <p:nvPr/>
            </p:nvSpPr>
            <p:spPr>
              <a:xfrm>
                <a:off x="7364160" y="2455200"/>
                <a:ext cx="3672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23"/>
              <p:cNvSpPr/>
              <p:nvPr/>
            </p:nvSpPr>
            <p:spPr>
              <a:xfrm>
                <a:off x="7180200" y="2113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24"/>
            <p:cNvGrpSpPr/>
            <p:nvPr/>
          </p:nvGrpSpPr>
          <p:grpSpPr>
            <a:xfrm>
              <a:off x="6256800" y="3875040"/>
              <a:ext cx="184320" cy="354600"/>
              <a:chOff x="6256800" y="3875040"/>
              <a:chExt cx="184320" cy="354600"/>
            </a:xfrm>
          </p:grpSpPr>
          <p:sp>
            <p:nvSpPr>
              <p:cNvPr id="211" name="Oval 25"/>
              <p:cNvSpPr/>
              <p:nvPr/>
            </p:nvSpPr>
            <p:spPr>
              <a:xfrm>
                <a:off x="6404400" y="3875040"/>
                <a:ext cx="36720" cy="37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6"/>
              <p:cNvSpPr/>
              <p:nvPr/>
            </p:nvSpPr>
            <p:spPr>
              <a:xfrm>
                <a:off x="6256800" y="39398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Line 27"/>
          <p:cNvSpPr/>
          <p:nvPr/>
        </p:nvSpPr>
        <p:spPr>
          <a:xfrm>
            <a:off x="1752480" y="609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Given: BE bisects 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MBA; BM = B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ME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_______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hy?_____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4116240"/>
            <a:ext cx="76201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A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3152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5"/>
          <p:cNvGrpSpPr/>
          <p:nvPr/>
        </p:nvGrpSpPr>
        <p:grpSpPr>
          <a:xfrm>
            <a:off x="4800600" y="2209680"/>
            <a:ext cx="3390840" cy="2632320"/>
            <a:chOff x="4800600" y="2209680"/>
            <a:chExt cx="3390840" cy="2632320"/>
          </a:xfrm>
        </p:grpSpPr>
        <p:sp>
          <p:nvSpPr>
            <p:cNvPr id="218" name="AutoShape 6"/>
            <p:cNvSpPr/>
            <p:nvPr/>
          </p:nvSpPr>
          <p:spPr>
            <a:xfrm>
              <a:off x="4800600" y="2209680"/>
              <a:ext cx="3390840" cy="26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"/>
            <p:cNvSpPr/>
            <p:nvPr/>
          </p:nvSpPr>
          <p:spPr>
            <a:xfrm flipH="1">
              <a:off x="5182920" y="2778840"/>
              <a:ext cx="1119600" cy="7232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5182920" y="3502440"/>
              <a:ext cx="2448720" cy="7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5182920" y="3502440"/>
              <a:ext cx="1119600" cy="72216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 flipH="1">
              <a:off x="6302880" y="3502440"/>
              <a:ext cx="1329120" cy="72216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6302880" y="2778840"/>
              <a:ext cx="1329120" cy="7232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7061040" y="3480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7061040" y="3217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"/>
            <p:cNvSpPr/>
            <p:nvPr/>
          </p:nvSpPr>
          <p:spPr>
            <a:xfrm>
              <a:off x="5600520" y="3524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5"/>
            <p:cNvSpPr/>
            <p:nvPr/>
          </p:nvSpPr>
          <p:spPr>
            <a:xfrm>
              <a:off x="5600520" y="3217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6"/>
            <p:cNvGrpSpPr/>
            <p:nvPr/>
          </p:nvGrpSpPr>
          <p:grpSpPr>
            <a:xfrm>
              <a:off x="6258600" y="4203720"/>
              <a:ext cx="160920" cy="365400"/>
              <a:chOff x="6258600" y="4203720"/>
              <a:chExt cx="160920" cy="365400"/>
            </a:xfrm>
          </p:grpSpPr>
          <p:sp>
            <p:nvSpPr>
              <p:cNvPr id="229" name="Oval 17"/>
              <p:cNvSpPr/>
              <p:nvPr/>
            </p:nvSpPr>
            <p:spPr>
              <a:xfrm>
                <a:off x="6281280" y="4203720"/>
                <a:ext cx="43920" cy="43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8"/>
              <p:cNvSpPr/>
              <p:nvPr/>
            </p:nvSpPr>
            <p:spPr>
              <a:xfrm>
                <a:off x="6258600" y="42793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9"/>
            <p:cNvGrpSpPr/>
            <p:nvPr/>
          </p:nvGrpSpPr>
          <p:grpSpPr>
            <a:xfrm>
              <a:off x="4907520" y="3041640"/>
              <a:ext cx="296640" cy="482040"/>
              <a:chOff x="4907520" y="3041640"/>
              <a:chExt cx="296640" cy="482040"/>
            </a:xfrm>
          </p:grpSpPr>
          <p:sp>
            <p:nvSpPr>
              <p:cNvPr id="232" name="Oval 20"/>
              <p:cNvSpPr/>
              <p:nvPr/>
            </p:nvSpPr>
            <p:spPr>
              <a:xfrm>
                <a:off x="5160240" y="3479760"/>
                <a:ext cx="43920" cy="43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21"/>
              <p:cNvSpPr/>
              <p:nvPr/>
            </p:nvSpPr>
            <p:spPr>
              <a:xfrm>
                <a:off x="4907520" y="30416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22"/>
            <p:cNvGrpSpPr/>
            <p:nvPr/>
          </p:nvGrpSpPr>
          <p:grpSpPr>
            <a:xfrm>
              <a:off x="6050160" y="2319480"/>
              <a:ext cx="275040" cy="480600"/>
              <a:chOff x="6050160" y="2319480"/>
              <a:chExt cx="275040" cy="480600"/>
            </a:xfrm>
          </p:grpSpPr>
          <p:sp>
            <p:nvSpPr>
              <p:cNvPr id="235" name="Oval 23"/>
              <p:cNvSpPr/>
              <p:nvPr/>
            </p:nvSpPr>
            <p:spPr>
              <a:xfrm>
                <a:off x="6281280" y="2757240"/>
                <a:ext cx="43920" cy="428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24"/>
              <p:cNvSpPr/>
              <p:nvPr/>
            </p:nvSpPr>
            <p:spPr>
              <a:xfrm>
                <a:off x="6050160" y="2319480"/>
                <a:ext cx="201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25"/>
            <p:cNvGrpSpPr/>
            <p:nvPr/>
          </p:nvGrpSpPr>
          <p:grpSpPr>
            <a:xfrm>
              <a:off x="7609680" y="3315600"/>
              <a:ext cx="268920" cy="289800"/>
              <a:chOff x="7609680" y="3315600"/>
              <a:chExt cx="268920" cy="289800"/>
            </a:xfrm>
          </p:grpSpPr>
          <p:sp>
            <p:nvSpPr>
              <p:cNvPr id="238" name="Oval 26"/>
              <p:cNvSpPr/>
              <p:nvPr/>
            </p:nvSpPr>
            <p:spPr>
              <a:xfrm>
                <a:off x="7609680" y="3479760"/>
                <a:ext cx="43920" cy="43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7"/>
              <p:cNvSpPr/>
              <p:nvPr/>
            </p:nvSpPr>
            <p:spPr>
              <a:xfrm>
                <a:off x="7717680" y="3315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Line 28"/>
          <p:cNvSpPr/>
          <p:nvPr/>
        </p:nvSpPr>
        <p:spPr>
          <a:xfrm>
            <a:off x="2438280" y="685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G: U is the midpoint of LG and AH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AU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_______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hy?______ ?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3963600"/>
            <a:ext cx="7620120" cy="19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GH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0102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55627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45" name="Line 6"/>
          <p:cNvSpPr/>
          <p:nvPr/>
        </p:nvSpPr>
        <p:spPr>
          <a:xfrm>
            <a:off x="5943600" y="609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77724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5029200" y="1905120"/>
            <a:ext cx="2971800" cy="2336760"/>
            <a:chOff x="5029200" y="1905120"/>
            <a:chExt cx="2971800" cy="2336760"/>
          </a:xfrm>
        </p:grpSpPr>
        <p:sp>
          <p:nvSpPr>
            <p:cNvPr id="248" name="AutoShape 9"/>
            <p:cNvSpPr/>
            <p:nvPr/>
          </p:nvSpPr>
          <p:spPr>
            <a:xfrm>
              <a:off x="5029200" y="1905120"/>
              <a:ext cx="2971800" cy="23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H="1">
              <a:off x="5312160" y="2452680"/>
              <a:ext cx="709560" cy="117792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>
              <a:off x="6022080" y="2452680"/>
              <a:ext cx="455400" cy="63684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>
              <a:off x="5312520" y="3089880"/>
              <a:ext cx="1164960" cy="54108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6931800" y="2548440"/>
              <a:ext cx="709560" cy="117792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6477480" y="3089880"/>
              <a:ext cx="454320" cy="63648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>
              <a:off x="6477480" y="2548440"/>
              <a:ext cx="1164240" cy="54108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6179760" y="287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6648480" y="29829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8"/>
            <p:cNvGrpSpPr/>
            <p:nvPr/>
          </p:nvGrpSpPr>
          <p:grpSpPr>
            <a:xfrm>
              <a:off x="6911280" y="3693960"/>
              <a:ext cx="185040" cy="305280"/>
              <a:chOff x="6911280" y="3693960"/>
              <a:chExt cx="185040" cy="305280"/>
            </a:xfrm>
          </p:grpSpPr>
          <p:sp>
            <p:nvSpPr>
              <p:cNvPr id="258" name="Oval 19"/>
              <p:cNvSpPr/>
              <p:nvPr/>
            </p:nvSpPr>
            <p:spPr>
              <a:xfrm>
                <a:off x="6911280" y="3704400"/>
                <a:ext cx="42840" cy="428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"/>
              <p:cNvSpPr/>
              <p:nvPr/>
            </p:nvSpPr>
            <p:spPr>
              <a:xfrm>
                <a:off x="6911280" y="369396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21"/>
            <p:cNvGrpSpPr/>
            <p:nvPr/>
          </p:nvGrpSpPr>
          <p:grpSpPr>
            <a:xfrm>
              <a:off x="7534800" y="2176920"/>
              <a:ext cx="198720" cy="391680"/>
              <a:chOff x="7534800" y="2176920"/>
              <a:chExt cx="198720" cy="391680"/>
            </a:xfrm>
          </p:grpSpPr>
          <p:sp>
            <p:nvSpPr>
              <p:cNvPr id="261" name="Oval 22"/>
              <p:cNvSpPr/>
              <p:nvPr/>
            </p:nvSpPr>
            <p:spPr>
              <a:xfrm>
                <a:off x="7620840" y="2526840"/>
                <a:ext cx="417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3"/>
              <p:cNvSpPr/>
              <p:nvPr/>
            </p:nvSpPr>
            <p:spPr>
              <a:xfrm>
                <a:off x="7534800" y="2176920"/>
                <a:ext cx="198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4"/>
            <p:cNvGrpSpPr/>
            <p:nvPr/>
          </p:nvGrpSpPr>
          <p:grpSpPr>
            <a:xfrm>
              <a:off x="5117400" y="3461040"/>
              <a:ext cx="200520" cy="305280"/>
              <a:chOff x="5117400" y="3461040"/>
              <a:chExt cx="200520" cy="305280"/>
            </a:xfrm>
          </p:grpSpPr>
          <p:sp>
            <p:nvSpPr>
              <p:cNvPr id="264" name="Oval 25"/>
              <p:cNvSpPr/>
              <p:nvPr/>
            </p:nvSpPr>
            <p:spPr>
              <a:xfrm>
                <a:off x="5276160" y="3609000"/>
                <a:ext cx="41760" cy="428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26"/>
              <p:cNvSpPr/>
              <p:nvPr/>
            </p:nvSpPr>
            <p:spPr>
              <a:xfrm>
                <a:off x="5117400" y="34610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27"/>
            <p:cNvGrpSpPr/>
            <p:nvPr/>
          </p:nvGrpSpPr>
          <p:grpSpPr>
            <a:xfrm>
              <a:off x="5757480" y="2007000"/>
              <a:ext cx="285120" cy="466200"/>
              <a:chOff x="5757480" y="2007000"/>
              <a:chExt cx="285120" cy="466200"/>
            </a:xfrm>
          </p:grpSpPr>
          <p:sp>
            <p:nvSpPr>
              <p:cNvPr id="267" name="Oval 28"/>
              <p:cNvSpPr/>
              <p:nvPr/>
            </p:nvSpPr>
            <p:spPr>
              <a:xfrm>
                <a:off x="6000840" y="2431440"/>
                <a:ext cx="417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29"/>
              <p:cNvSpPr/>
              <p:nvPr/>
            </p:nvSpPr>
            <p:spPr>
              <a:xfrm>
                <a:off x="5757480" y="200700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0"/>
            <p:cNvGrpSpPr/>
            <p:nvPr/>
          </p:nvGrpSpPr>
          <p:grpSpPr>
            <a:xfrm>
              <a:off x="6392520" y="2612520"/>
              <a:ext cx="185040" cy="497880"/>
              <a:chOff x="6392520" y="2612520"/>
              <a:chExt cx="185040" cy="497880"/>
            </a:xfrm>
          </p:grpSpPr>
          <p:sp>
            <p:nvSpPr>
              <p:cNvPr id="270" name="Oval 31"/>
              <p:cNvSpPr/>
              <p:nvPr/>
            </p:nvSpPr>
            <p:spPr>
              <a:xfrm>
                <a:off x="6455520" y="3068640"/>
                <a:ext cx="4248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2"/>
              <p:cNvSpPr/>
              <p:nvPr/>
            </p:nvSpPr>
            <p:spPr>
              <a:xfrm>
                <a:off x="6392520" y="261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266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iven: B is the midpoint AC; AD = C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D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__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______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3579840"/>
            <a:ext cx="76201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C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6781680" y="4800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6858000" y="38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886200" y="3124080"/>
            <a:ext cx="2311560" cy="2362320"/>
            <a:chOff x="3886200" y="3124080"/>
            <a:chExt cx="2311560" cy="2362320"/>
          </a:xfrm>
        </p:grpSpPr>
        <p:sp>
          <p:nvSpPr>
            <p:cNvPr id="277" name="AutoShape 7"/>
            <p:cNvSpPr/>
            <p:nvPr/>
          </p:nvSpPr>
          <p:spPr>
            <a:xfrm>
              <a:off x="3886200" y="3124080"/>
              <a:ext cx="23115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4159800" y="3601440"/>
              <a:ext cx="1859400" cy="7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 flipH="1">
              <a:off x="5089680" y="3601440"/>
              <a:ext cx="929520" cy="13748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4159800" y="3601440"/>
              <a:ext cx="929520" cy="13748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5089680" y="3601440"/>
              <a:ext cx="720" cy="13748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4928760" y="4484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5141520" y="4484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4"/>
            <p:cNvSpPr/>
            <p:nvPr/>
          </p:nvSpPr>
          <p:spPr>
            <a:xfrm>
              <a:off x="5187600" y="3629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4902120" y="3617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6"/>
            <p:cNvGrpSpPr/>
            <p:nvPr/>
          </p:nvGrpSpPr>
          <p:grpSpPr>
            <a:xfrm>
              <a:off x="4847400" y="3208320"/>
              <a:ext cx="259200" cy="410040"/>
              <a:chOff x="4847400" y="3208320"/>
              <a:chExt cx="259200" cy="410040"/>
            </a:xfrm>
          </p:grpSpPr>
          <p:sp>
            <p:nvSpPr>
              <p:cNvPr id="287" name="Oval 17"/>
              <p:cNvSpPr/>
              <p:nvPr/>
            </p:nvSpPr>
            <p:spPr>
              <a:xfrm>
                <a:off x="5070960" y="3583440"/>
                <a:ext cx="3564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8"/>
              <p:cNvSpPr/>
              <p:nvPr/>
            </p:nvSpPr>
            <p:spPr>
              <a:xfrm>
                <a:off x="4847400" y="32083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9"/>
            <p:cNvGrpSpPr/>
            <p:nvPr/>
          </p:nvGrpSpPr>
          <p:grpSpPr>
            <a:xfrm>
              <a:off x="3971160" y="3235320"/>
              <a:ext cx="206280" cy="383400"/>
              <a:chOff x="3971160" y="3235320"/>
              <a:chExt cx="206280" cy="383400"/>
            </a:xfrm>
          </p:grpSpPr>
          <p:sp>
            <p:nvSpPr>
              <p:cNvPr id="290" name="Oval 20"/>
              <p:cNvSpPr/>
              <p:nvPr/>
            </p:nvSpPr>
            <p:spPr>
              <a:xfrm>
                <a:off x="4141440" y="3583800"/>
                <a:ext cx="3600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1"/>
              <p:cNvSpPr/>
              <p:nvPr/>
            </p:nvSpPr>
            <p:spPr>
              <a:xfrm>
                <a:off x="3971160" y="32353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22"/>
            <p:cNvGrpSpPr/>
            <p:nvPr/>
          </p:nvGrpSpPr>
          <p:grpSpPr>
            <a:xfrm>
              <a:off x="5822280" y="3252960"/>
              <a:ext cx="213840" cy="365400"/>
              <a:chOff x="5822280" y="3252960"/>
              <a:chExt cx="213840" cy="365400"/>
            </a:xfrm>
          </p:grpSpPr>
          <p:sp>
            <p:nvSpPr>
              <p:cNvPr id="293" name="Oval 23"/>
              <p:cNvSpPr/>
              <p:nvPr/>
            </p:nvSpPr>
            <p:spPr>
              <a:xfrm>
                <a:off x="6000480" y="3583440"/>
                <a:ext cx="3564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24"/>
              <p:cNvSpPr/>
              <p:nvPr/>
            </p:nvSpPr>
            <p:spPr>
              <a:xfrm>
                <a:off x="5822280" y="32529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25"/>
            <p:cNvGrpSpPr/>
            <p:nvPr/>
          </p:nvGrpSpPr>
          <p:grpSpPr>
            <a:xfrm>
              <a:off x="4928040" y="4958640"/>
              <a:ext cx="178560" cy="353160"/>
              <a:chOff x="4928040" y="4958640"/>
              <a:chExt cx="178560" cy="353160"/>
            </a:xfrm>
          </p:grpSpPr>
          <p:sp>
            <p:nvSpPr>
              <p:cNvPr id="296" name="Oval 26"/>
              <p:cNvSpPr/>
              <p:nvPr/>
            </p:nvSpPr>
            <p:spPr>
              <a:xfrm>
                <a:off x="5070960" y="4958640"/>
                <a:ext cx="3564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27"/>
              <p:cNvSpPr/>
              <p:nvPr/>
            </p:nvSpPr>
            <p:spPr>
              <a:xfrm>
                <a:off x="4928040" y="50220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Given: PO = NO 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MPO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________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hy?______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3503520"/>
            <a:ext cx="373248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M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7010280" y="5029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4954680" y="1903320"/>
            <a:ext cx="29732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505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reason these triangles are congruent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3809520"/>
            <a:ext cx="3732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S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69343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tretch/>
        </p:blipFill>
        <p:spPr>
          <a:xfrm>
            <a:off x="4648320" y="762120"/>
            <a:ext cx="27716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iven: SM || LE; I is the midpoint of ME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MI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__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______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3656160"/>
            <a:ext cx="7620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L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AS or A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67816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4648320" y="1905120"/>
            <a:ext cx="3390840" cy="2666880"/>
            <a:chOff x="4648320" y="1905120"/>
            <a:chExt cx="3390840" cy="2666880"/>
          </a:xfrm>
        </p:grpSpPr>
        <p:sp>
          <p:nvSpPr>
            <p:cNvPr id="310" name="AutoShape 7"/>
            <p:cNvSpPr/>
            <p:nvPr/>
          </p:nvSpPr>
          <p:spPr>
            <a:xfrm>
              <a:off x="4648320" y="1905120"/>
              <a:ext cx="339084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4971240" y="2530080"/>
              <a:ext cx="809640" cy="134424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9"/>
            <p:cNvSpPr/>
            <p:nvPr/>
          </p:nvSpPr>
          <p:spPr>
            <a:xfrm>
              <a:off x="5781240" y="2530080"/>
              <a:ext cx="519480" cy="72684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0"/>
            <p:cNvSpPr/>
            <p:nvPr/>
          </p:nvSpPr>
          <p:spPr>
            <a:xfrm flipH="1">
              <a:off x="4971600" y="3256920"/>
              <a:ext cx="1329120" cy="61740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6819120" y="2639160"/>
              <a:ext cx="809640" cy="134424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>
              <a:off x="6301080" y="3256920"/>
              <a:ext cx="518400" cy="72648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3"/>
            <p:cNvSpPr/>
            <p:nvPr/>
          </p:nvSpPr>
          <p:spPr>
            <a:xfrm flipH="1">
              <a:off x="6301080" y="2639160"/>
              <a:ext cx="1328400" cy="61776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5962320" y="3015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5"/>
            <p:cNvSpPr/>
            <p:nvPr/>
          </p:nvSpPr>
          <p:spPr>
            <a:xfrm>
              <a:off x="6494040" y="313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6"/>
            <p:cNvGrpSpPr/>
            <p:nvPr/>
          </p:nvGrpSpPr>
          <p:grpSpPr>
            <a:xfrm>
              <a:off x="6795720" y="3946680"/>
              <a:ext cx="169920" cy="305280"/>
              <a:chOff x="6795720" y="3946680"/>
              <a:chExt cx="169920" cy="305280"/>
            </a:xfrm>
          </p:grpSpPr>
          <p:sp>
            <p:nvSpPr>
              <p:cNvPr id="320" name="Oval 17"/>
              <p:cNvSpPr/>
              <p:nvPr/>
            </p:nvSpPr>
            <p:spPr>
              <a:xfrm>
                <a:off x="6795720" y="3958560"/>
                <a:ext cx="48960" cy="486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6795720" y="39466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19"/>
            <p:cNvGrpSpPr/>
            <p:nvPr/>
          </p:nvGrpSpPr>
          <p:grpSpPr>
            <a:xfrm>
              <a:off x="7507800" y="2215440"/>
              <a:ext cx="144720" cy="447480"/>
              <a:chOff x="7507800" y="2215440"/>
              <a:chExt cx="144720" cy="447480"/>
            </a:xfrm>
          </p:grpSpPr>
          <p:sp>
            <p:nvSpPr>
              <p:cNvPr id="323" name="Oval 20"/>
              <p:cNvSpPr/>
              <p:nvPr/>
            </p:nvSpPr>
            <p:spPr>
              <a:xfrm>
                <a:off x="7605000" y="2615040"/>
                <a:ext cx="47520" cy="47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1"/>
              <p:cNvSpPr/>
              <p:nvPr/>
            </p:nvSpPr>
            <p:spPr>
              <a:xfrm>
                <a:off x="7507800" y="22154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2"/>
            <p:cNvGrpSpPr/>
            <p:nvPr/>
          </p:nvGrpSpPr>
          <p:grpSpPr>
            <a:xfrm>
              <a:off x="4749480" y="3680640"/>
              <a:ext cx="228600" cy="305280"/>
              <a:chOff x="4749480" y="3680640"/>
              <a:chExt cx="228600" cy="305280"/>
            </a:xfrm>
          </p:grpSpPr>
          <p:sp>
            <p:nvSpPr>
              <p:cNvPr id="326" name="Oval 23"/>
              <p:cNvSpPr/>
              <p:nvPr/>
            </p:nvSpPr>
            <p:spPr>
              <a:xfrm>
                <a:off x="4930200" y="3849480"/>
                <a:ext cx="47880" cy="486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4"/>
              <p:cNvSpPr/>
              <p:nvPr/>
            </p:nvSpPr>
            <p:spPr>
              <a:xfrm>
                <a:off x="4749480" y="36806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5"/>
            <p:cNvGrpSpPr/>
            <p:nvPr/>
          </p:nvGrpSpPr>
          <p:grpSpPr>
            <a:xfrm>
              <a:off x="5479200" y="2021400"/>
              <a:ext cx="326160" cy="532440"/>
              <a:chOff x="5479200" y="2021400"/>
              <a:chExt cx="326160" cy="532440"/>
            </a:xfrm>
          </p:grpSpPr>
          <p:sp>
            <p:nvSpPr>
              <p:cNvPr id="329" name="Oval 26"/>
              <p:cNvSpPr/>
              <p:nvPr/>
            </p:nvSpPr>
            <p:spPr>
              <a:xfrm>
                <a:off x="5757480" y="2505960"/>
                <a:ext cx="47880" cy="47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7"/>
              <p:cNvSpPr/>
              <p:nvPr/>
            </p:nvSpPr>
            <p:spPr>
              <a:xfrm>
                <a:off x="5479200" y="202140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28"/>
            <p:cNvGrpSpPr/>
            <p:nvPr/>
          </p:nvGrpSpPr>
          <p:grpSpPr>
            <a:xfrm>
              <a:off x="6203520" y="2712240"/>
              <a:ext cx="120960" cy="568440"/>
              <a:chOff x="6203520" y="2712240"/>
              <a:chExt cx="120960" cy="568440"/>
            </a:xfrm>
          </p:grpSpPr>
          <p:sp>
            <p:nvSpPr>
              <p:cNvPr id="332" name="Oval 29"/>
              <p:cNvSpPr/>
              <p:nvPr/>
            </p:nvSpPr>
            <p:spPr>
              <a:xfrm>
                <a:off x="6275880" y="3232800"/>
                <a:ext cx="48600" cy="47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0"/>
              <p:cNvSpPr/>
              <p:nvPr/>
            </p:nvSpPr>
            <p:spPr>
              <a:xfrm>
                <a:off x="6203520" y="2712240"/>
                <a:ext cx="70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Line 31"/>
          <p:cNvSpPr/>
          <p:nvPr/>
        </p:nvSpPr>
        <p:spPr>
          <a:xfrm>
            <a:off x="3962520" y="304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>
            <a:off x="2819520" y="304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>
            <a:off x="3886200" y="914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Solve for x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x = 1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1629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30337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iven: WT = HA; WH = AT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T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_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_________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43430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66294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6"/>
          <p:cNvGrpSpPr/>
          <p:nvPr/>
        </p:nvGrpSpPr>
        <p:grpSpPr>
          <a:xfrm>
            <a:off x="5181480" y="1600200"/>
            <a:ext cx="3200400" cy="2484360"/>
            <a:chOff x="5181480" y="1600200"/>
            <a:chExt cx="3200400" cy="2484360"/>
          </a:xfrm>
        </p:grpSpPr>
        <p:sp>
          <p:nvSpPr>
            <p:cNvPr id="341" name="AutoShape 7"/>
            <p:cNvSpPr/>
            <p:nvPr/>
          </p:nvSpPr>
          <p:spPr>
            <a:xfrm>
              <a:off x="5181480" y="1600200"/>
              <a:ext cx="3200400" cy="24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8"/>
            <p:cNvSpPr/>
            <p:nvPr/>
          </p:nvSpPr>
          <p:spPr>
            <a:xfrm flipH="1">
              <a:off x="5542200" y="2137680"/>
              <a:ext cx="1056600" cy="68256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9"/>
            <p:cNvSpPr/>
            <p:nvPr/>
          </p:nvSpPr>
          <p:spPr>
            <a:xfrm>
              <a:off x="5542560" y="2820240"/>
              <a:ext cx="2311200" cy="7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0"/>
            <p:cNvSpPr/>
            <p:nvPr/>
          </p:nvSpPr>
          <p:spPr>
            <a:xfrm>
              <a:off x="5542560" y="2820240"/>
              <a:ext cx="1056600" cy="68148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 flipH="1">
              <a:off x="6599160" y="2820240"/>
              <a:ext cx="1254600" cy="68148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6599520" y="2137680"/>
              <a:ext cx="1254600" cy="68256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13"/>
            <p:cNvGrpSpPr/>
            <p:nvPr/>
          </p:nvGrpSpPr>
          <p:grpSpPr>
            <a:xfrm>
              <a:off x="6557760" y="3481920"/>
              <a:ext cx="160920" cy="362160"/>
              <a:chOff x="6557760" y="3481920"/>
              <a:chExt cx="160920" cy="362160"/>
            </a:xfrm>
          </p:grpSpPr>
          <p:sp>
            <p:nvSpPr>
              <p:cNvPr id="348" name="Oval 14"/>
              <p:cNvSpPr/>
              <p:nvPr/>
            </p:nvSpPr>
            <p:spPr>
              <a:xfrm>
                <a:off x="6579000" y="3481920"/>
                <a:ext cx="4140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6557760" y="35542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16"/>
            <p:cNvGrpSpPr/>
            <p:nvPr/>
          </p:nvGrpSpPr>
          <p:grpSpPr>
            <a:xfrm>
              <a:off x="5282640" y="2385360"/>
              <a:ext cx="279720" cy="454680"/>
              <a:chOff x="5282640" y="2385360"/>
              <a:chExt cx="279720" cy="454680"/>
            </a:xfrm>
          </p:grpSpPr>
          <p:sp>
            <p:nvSpPr>
              <p:cNvPr id="351" name="Oval 17"/>
              <p:cNvSpPr/>
              <p:nvPr/>
            </p:nvSpPr>
            <p:spPr>
              <a:xfrm>
                <a:off x="5520960" y="2798640"/>
                <a:ext cx="4140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8"/>
              <p:cNvSpPr/>
              <p:nvPr/>
            </p:nvSpPr>
            <p:spPr>
              <a:xfrm>
                <a:off x="5282640" y="2385360"/>
                <a:ext cx="148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19"/>
            <p:cNvGrpSpPr/>
            <p:nvPr/>
          </p:nvGrpSpPr>
          <p:grpSpPr>
            <a:xfrm>
              <a:off x="6360480" y="1703520"/>
              <a:ext cx="259920" cy="453600"/>
              <a:chOff x="6360480" y="1703520"/>
              <a:chExt cx="259920" cy="453600"/>
            </a:xfrm>
          </p:grpSpPr>
          <p:sp>
            <p:nvSpPr>
              <p:cNvPr id="354" name="Oval 20"/>
              <p:cNvSpPr/>
              <p:nvPr/>
            </p:nvSpPr>
            <p:spPr>
              <a:xfrm>
                <a:off x="6579000" y="2116800"/>
                <a:ext cx="41400" cy="40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21"/>
              <p:cNvSpPr/>
              <p:nvPr/>
            </p:nvSpPr>
            <p:spPr>
              <a:xfrm>
                <a:off x="6360480" y="1703520"/>
                <a:ext cx="227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22"/>
            <p:cNvGrpSpPr/>
            <p:nvPr/>
          </p:nvGrpSpPr>
          <p:grpSpPr>
            <a:xfrm>
              <a:off x="7832520" y="2644200"/>
              <a:ext cx="277920" cy="289800"/>
              <a:chOff x="7832520" y="2644200"/>
              <a:chExt cx="277920" cy="289800"/>
            </a:xfrm>
          </p:grpSpPr>
          <p:sp>
            <p:nvSpPr>
              <p:cNvPr id="357" name="Oval 23"/>
              <p:cNvSpPr/>
              <p:nvPr/>
            </p:nvSpPr>
            <p:spPr>
              <a:xfrm>
                <a:off x="7832520" y="2799000"/>
                <a:ext cx="4140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4"/>
              <p:cNvSpPr/>
              <p:nvPr/>
            </p:nvSpPr>
            <p:spPr>
              <a:xfrm>
                <a:off x="7935840" y="26442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exact phrase that CPCTC stands for.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3735360"/>
            <a:ext cx="762012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“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responding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s of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ruent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angles ar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ruent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6781680" y="5029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1143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iven: AE = CE; BE = DE;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 = DC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E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___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_________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3276720"/>
            <a:ext cx="3732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S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73152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tretch/>
        </p:blipFill>
        <p:spPr>
          <a:xfrm>
            <a:off x="4111560" y="3446640"/>
            <a:ext cx="35863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Final Jeopardy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Cartoon Character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320" y="40384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Sal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6781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066680" y="2209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The name of Charlie Brown’s sis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Solve for x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x = 1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71629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5863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The measure of 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JKL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59 degre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72388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146400" cy="3581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5257800" y="1981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KN = 14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If the m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G = 50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, find the measure of 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J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32.5 degre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3643560" cy="277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36673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If the m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G = 20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, find the measure of 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J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40 degre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69343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3643560" cy="277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36673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is number represents the sum of the measures of the angles of a triangle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2668320"/>
            <a:ext cx="762012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18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>
            <a:hlinkClick r:id="rId1" action="ppaction://hlinksldjump"/>
          </p:cNvPr>
          <p:cNvSpPr/>
          <p:nvPr/>
        </p:nvSpPr>
        <p:spPr>
          <a:xfrm>
            <a:off x="70866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exterior angle of this triangle is equal to the sum of these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angles 7 and 8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rId1" action="ppaction://hlinksldjump"/>
          </p:cNvPr>
          <p:cNvSpPr/>
          <p:nvPr/>
        </p:nvSpPr>
        <p:spPr>
          <a:xfrm>
            <a:off x="72388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3324240" y="2943360"/>
            <a:ext cx="24955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21:30:57Z</dcterms:created>
  <dc:creator>Beresford Schools</dc:creator>
  <dc:description/>
  <dc:language>en-US</dc:language>
  <cp:lastModifiedBy>temp</cp:lastModifiedBy>
  <dcterms:modified xsi:type="dcterms:W3CDTF">2013-11-15T15:07:58Z</dcterms:modified>
  <cp:revision>47</cp:revision>
  <dc:subject/>
  <dc:title>Math Jeopardy</dc:title>
</cp:coreProperties>
</file>